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12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6AB0-6553-4E92-8FFC-087EEEF812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791B-C867-48EF-A5FE-FAA1D43D2C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F5A0-DC77-4390-AD2C-A00E95711C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CB5A-5BCF-45C3-83C4-55F89ED128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4C0E-4D2A-43EF-B7FD-1080237E4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A64E-8104-40B8-85A4-06E922C1EF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5415-CC77-4660-8B7D-EA0C46676C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760560"/>
            <a:ext cx="82915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76056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705920" y="376056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60880" y="148392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64560" y="148392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76056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60880" y="376056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64560" y="376056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9152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92360" y="259920"/>
            <a:ext cx="68752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6056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483920"/>
            <a:ext cx="829152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705920" y="376056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60560"/>
            <a:ext cx="82915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760560"/>
            <a:ext cx="82915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76056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705920" y="376056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60880" y="148392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64560" y="148392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76056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60880" y="376056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64560" y="3760560"/>
            <a:ext cx="26697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692360" y="259920"/>
            <a:ext cx="687528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056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05920" y="376056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05920" y="1483920"/>
            <a:ext cx="404604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760560"/>
            <a:ext cx="829152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5"/>
          <p:cNvGrpSpPr/>
          <p:nvPr/>
        </p:nvGrpSpPr>
        <p:grpSpPr>
          <a:xfrm>
            <a:off x="142920" y="4865760"/>
            <a:ext cx="3456000" cy="1875960"/>
            <a:chOff x="142920" y="4865760"/>
            <a:chExt cx="3456000" cy="1875960"/>
          </a:xfrm>
        </p:grpSpPr>
        <p:grpSp>
          <p:nvGrpSpPr>
            <p:cNvPr id="1" name="Group 136"/>
            <p:cNvGrpSpPr/>
            <p:nvPr/>
          </p:nvGrpSpPr>
          <p:grpSpPr>
            <a:xfrm>
              <a:off x="1474560" y="5260680"/>
              <a:ext cx="792000" cy="1442520"/>
              <a:chOff x="1474560" y="5260680"/>
              <a:chExt cx="792000" cy="1442520"/>
            </a:xfrm>
          </p:grpSpPr>
          <p:sp>
            <p:nvSpPr>
              <p:cNvPr id="2" name="AutoShape 137"/>
              <p:cNvSpPr/>
              <p:nvPr/>
            </p:nvSpPr>
            <p:spPr>
              <a:xfrm>
                <a:off x="1474560" y="601776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AutoShape 138"/>
              <p:cNvSpPr/>
              <p:nvPr/>
            </p:nvSpPr>
            <p:spPr>
              <a:xfrm>
                <a:off x="1474560" y="526068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" name="AutoShape 139"/>
            <p:cNvSpPr/>
            <p:nvPr/>
          </p:nvSpPr>
          <p:spPr>
            <a:xfrm>
              <a:off x="2141640" y="5659200"/>
              <a:ext cx="792000" cy="685440"/>
            </a:xfrm>
            <a:prstGeom prst="hexagon">
              <a:avLst>
                <a:gd name="adj" fmla="val 28887"/>
                <a:gd name="vf" fmla="val 115470"/>
              </a:avLst>
            </a:prstGeom>
            <a:noFill/>
            <a:ln w="9360">
              <a:solidFill>
                <a:srgbClr val="e6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AutoShape 140"/>
            <p:cNvSpPr/>
            <p:nvPr/>
          </p:nvSpPr>
          <p:spPr>
            <a:xfrm>
              <a:off x="2806560" y="6056280"/>
              <a:ext cx="792360" cy="685440"/>
            </a:xfrm>
            <a:prstGeom prst="hexagon">
              <a:avLst>
                <a:gd name="adj" fmla="val 28900"/>
                <a:gd name="vf" fmla="val 115470"/>
              </a:avLst>
            </a:prstGeom>
            <a:noFill/>
            <a:ln w="9360">
              <a:solidFill>
                <a:srgbClr val="e6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Group 141"/>
            <p:cNvGrpSpPr/>
            <p:nvPr/>
          </p:nvGrpSpPr>
          <p:grpSpPr>
            <a:xfrm>
              <a:off x="809640" y="4865760"/>
              <a:ext cx="792000" cy="1441080"/>
              <a:chOff x="809640" y="4865760"/>
              <a:chExt cx="792000" cy="1441080"/>
            </a:xfrm>
          </p:grpSpPr>
          <p:sp>
            <p:nvSpPr>
              <p:cNvPr id="7" name="AutoShape 142"/>
              <p:cNvSpPr/>
              <p:nvPr/>
            </p:nvSpPr>
            <p:spPr>
              <a:xfrm>
                <a:off x="809640" y="562140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AutoShape 143"/>
              <p:cNvSpPr/>
              <p:nvPr/>
            </p:nvSpPr>
            <p:spPr>
              <a:xfrm>
                <a:off x="809640" y="486576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Group 144"/>
            <p:cNvGrpSpPr/>
            <p:nvPr/>
          </p:nvGrpSpPr>
          <p:grpSpPr>
            <a:xfrm>
              <a:off x="142920" y="5225760"/>
              <a:ext cx="792000" cy="1442520"/>
              <a:chOff x="142920" y="5225760"/>
              <a:chExt cx="792000" cy="1442520"/>
            </a:xfrm>
          </p:grpSpPr>
          <p:sp>
            <p:nvSpPr>
              <p:cNvPr id="10" name="AutoShape 145"/>
              <p:cNvSpPr/>
              <p:nvPr/>
            </p:nvSpPr>
            <p:spPr>
              <a:xfrm>
                <a:off x="142920" y="522576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AutoShape 146"/>
              <p:cNvSpPr/>
              <p:nvPr/>
            </p:nvSpPr>
            <p:spPr>
              <a:xfrm>
                <a:off x="142920" y="598284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dt" idx="1"/>
          </p:nvPr>
        </p:nvSpPr>
        <p:spPr>
          <a:xfrm>
            <a:off x="277920" y="6308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ftr" idx="2"/>
          </p:nvPr>
        </p:nvSpPr>
        <p:spPr>
          <a:xfrm>
            <a:off x="2944440" y="6308640"/>
            <a:ext cx="28954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915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Group 160"/>
          <p:cNvGrpSpPr/>
          <p:nvPr/>
        </p:nvGrpSpPr>
        <p:grpSpPr>
          <a:xfrm>
            <a:off x="108000" y="81000"/>
            <a:ext cx="792000" cy="1442520"/>
            <a:chOff x="108000" y="81000"/>
            <a:chExt cx="792000" cy="1442520"/>
          </a:xfrm>
        </p:grpSpPr>
        <p:sp>
          <p:nvSpPr>
            <p:cNvPr id="17" name="AutoShape 161"/>
            <p:cNvSpPr/>
            <p:nvPr/>
          </p:nvSpPr>
          <p:spPr>
            <a:xfrm>
              <a:off x="108000" y="838080"/>
              <a:ext cx="792000" cy="685440"/>
            </a:xfrm>
            <a:prstGeom prst="hexagon">
              <a:avLst>
                <a:gd name="adj" fmla="val 28887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AutoShape 162"/>
            <p:cNvSpPr/>
            <p:nvPr/>
          </p:nvSpPr>
          <p:spPr>
            <a:xfrm>
              <a:off x="108000" y="81000"/>
              <a:ext cx="792000" cy="685440"/>
            </a:xfrm>
            <a:prstGeom prst="hexagon">
              <a:avLst>
                <a:gd name="adj" fmla="val 28887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AutoShape 163"/>
          <p:cNvSpPr/>
          <p:nvPr/>
        </p:nvSpPr>
        <p:spPr>
          <a:xfrm>
            <a:off x="774720" y="479520"/>
            <a:ext cx="792000" cy="685800"/>
          </a:xfrm>
          <a:prstGeom prst="hexagon">
            <a:avLst>
              <a:gd name="adj" fmla="val 28871"/>
              <a:gd name="vf" fmla="val 1154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02"/>
          <p:cNvGrpSpPr/>
          <p:nvPr/>
        </p:nvGrpSpPr>
        <p:grpSpPr>
          <a:xfrm>
            <a:off x="3959280" y="3429000"/>
            <a:ext cx="5039640" cy="2736000"/>
            <a:chOff x="3959280" y="3429000"/>
            <a:chExt cx="5039640" cy="2736000"/>
          </a:xfrm>
        </p:grpSpPr>
        <p:grpSp>
          <p:nvGrpSpPr>
            <p:cNvPr id="57" name="Group 203"/>
            <p:cNvGrpSpPr/>
            <p:nvPr/>
          </p:nvGrpSpPr>
          <p:grpSpPr>
            <a:xfrm>
              <a:off x="5901120" y="4005360"/>
              <a:ext cx="1153080" cy="2103840"/>
              <a:chOff x="5901120" y="4005360"/>
              <a:chExt cx="1153080" cy="2103840"/>
            </a:xfrm>
          </p:grpSpPr>
          <p:sp>
            <p:nvSpPr>
              <p:cNvPr id="58" name="AutoShape 204"/>
              <p:cNvSpPr/>
              <p:nvPr/>
            </p:nvSpPr>
            <p:spPr>
              <a:xfrm>
                <a:off x="5901120" y="5109480"/>
                <a:ext cx="1153080" cy="9997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e68a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AutoShape 205"/>
              <p:cNvSpPr/>
              <p:nvPr/>
            </p:nvSpPr>
            <p:spPr>
              <a:xfrm>
                <a:off x="5901120" y="4005360"/>
                <a:ext cx="1153080" cy="9997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e68a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AutoShape 206"/>
            <p:cNvSpPr/>
            <p:nvPr/>
          </p:nvSpPr>
          <p:spPr>
            <a:xfrm>
              <a:off x="6873840" y="4586400"/>
              <a:ext cx="1154880" cy="9997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e68a0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07"/>
            <p:cNvSpPr/>
            <p:nvPr/>
          </p:nvSpPr>
          <p:spPr>
            <a:xfrm>
              <a:off x="7843680" y="5165280"/>
              <a:ext cx="1155240" cy="999720"/>
            </a:xfrm>
            <a:prstGeom prst="hexagon">
              <a:avLst>
                <a:gd name="adj" fmla="val 28889"/>
                <a:gd name="vf" fmla="val 115470"/>
              </a:avLst>
            </a:prstGeom>
            <a:solidFill>
              <a:srgbClr val="e68a0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208"/>
            <p:cNvGrpSpPr/>
            <p:nvPr/>
          </p:nvGrpSpPr>
          <p:grpSpPr>
            <a:xfrm>
              <a:off x="4931280" y="3429000"/>
              <a:ext cx="1152360" cy="2101680"/>
              <a:chOff x="4931280" y="3429000"/>
              <a:chExt cx="1152360" cy="2101680"/>
            </a:xfrm>
          </p:grpSpPr>
          <p:sp>
            <p:nvSpPr>
              <p:cNvPr id="63" name="AutoShape 209"/>
              <p:cNvSpPr/>
              <p:nvPr/>
            </p:nvSpPr>
            <p:spPr>
              <a:xfrm>
                <a:off x="4931280" y="4530960"/>
                <a:ext cx="1152360" cy="999720"/>
              </a:xfrm>
              <a:prstGeom prst="hexagon">
                <a:avLst>
                  <a:gd name="adj" fmla="val 28876"/>
                  <a:gd name="vf" fmla="val 115470"/>
                </a:avLst>
              </a:prstGeom>
              <a:solidFill>
                <a:srgbClr val="e68a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210"/>
              <p:cNvSpPr/>
              <p:nvPr/>
            </p:nvSpPr>
            <p:spPr>
              <a:xfrm>
                <a:off x="4931280" y="3429000"/>
                <a:ext cx="1152360" cy="999720"/>
              </a:xfrm>
              <a:prstGeom prst="hexagon">
                <a:avLst>
                  <a:gd name="adj" fmla="val 28876"/>
                  <a:gd name="vf" fmla="val 115470"/>
                </a:avLst>
              </a:prstGeom>
              <a:solidFill>
                <a:srgbClr val="e68a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11"/>
            <p:cNvGrpSpPr/>
            <p:nvPr/>
          </p:nvGrpSpPr>
          <p:grpSpPr>
            <a:xfrm>
              <a:off x="3959280" y="3954240"/>
              <a:ext cx="1154520" cy="2103840"/>
              <a:chOff x="3959280" y="3954240"/>
              <a:chExt cx="1154520" cy="2103840"/>
            </a:xfrm>
          </p:grpSpPr>
          <p:sp>
            <p:nvSpPr>
              <p:cNvPr id="66" name="AutoShape 212"/>
              <p:cNvSpPr/>
              <p:nvPr/>
            </p:nvSpPr>
            <p:spPr>
              <a:xfrm>
                <a:off x="3959280" y="3954240"/>
                <a:ext cx="1154520" cy="999720"/>
              </a:xfrm>
              <a:prstGeom prst="hexagon">
                <a:avLst>
                  <a:gd name="adj" fmla="val 28871"/>
                  <a:gd name="vf" fmla="val 115470"/>
                </a:avLst>
              </a:prstGeom>
              <a:solidFill>
                <a:srgbClr val="e68a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213"/>
              <p:cNvSpPr/>
              <p:nvPr/>
            </p:nvSpPr>
            <p:spPr>
              <a:xfrm>
                <a:off x="3959280" y="5058360"/>
                <a:ext cx="1154520" cy="999720"/>
              </a:xfrm>
              <a:prstGeom prst="hexagon">
                <a:avLst>
                  <a:gd name="adj" fmla="val 28871"/>
                  <a:gd name="vf" fmla="val 115470"/>
                </a:avLst>
              </a:prstGeom>
              <a:solidFill>
                <a:srgbClr val="e68a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178"/>
          <p:cNvGrpSpPr/>
          <p:nvPr/>
        </p:nvGrpSpPr>
        <p:grpSpPr>
          <a:xfrm>
            <a:off x="5545080" y="81000"/>
            <a:ext cx="3456000" cy="1875960"/>
            <a:chOff x="5545080" y="81000"/>
            <a:chExt cx="3456000" cy="1875960"/>
          </a:xfrm>
        </p:grpSpPr>
        <p:grpSp>
          <p:nvGrpSpPr>
            <p:cNvPr id="69" name="Group 179"/>
            <p:cNvGrpSpPr/>
            <p:nvPr/>
          </p:nvGrpSpPr>
          <p:grpSpPr>
            <a:xfrm>
              <a:off x="6877440" y="475920"/>
              <a:ext cx="792000" cy="1442520"/>
              <a:chOff x="6877440" y="475920"/>
              <a:chExt cx="792000" cy="1442520"/>
            </a:xfrm>
          </p:grpSpPr>
          <p:sp>
            <p:nvSpPr>
              <p:cNvPr id="70" name="AutoShape 180"/>
              <p:cNvSpPr/>
              <p:nvPr/>
            </p:nvSpPr>
            <p:spPr>
              <a:xfrm flipH="1">
                <a:off x="6877440" y="123300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181"/>
              <p:cNvSpPr/>
              <p:nvPr/>
            </p:nvSpPr>
            <p:spPr>
              <a:xfrm flipH="1">
                <a:off x="6877440" y="47592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AutoShape 182"/>
            <p:cNvSpPr/>
            <p:nvPr/>
          </p:nvSpPr>
          <p:spPr>
            <a:xfrm flipH="1">
              <a:off x="6210360" y="874440"/>
              <a:ext cx="792000" cy="685440"/>
            </a:xfrm>
            <a:prstGeom prst="hexagon">
              <a:avLst>
                <a:gd name="adj" fmla="val 28887"/>
                <a:gd name="vf" fmla="val 115470"/>
              </a:avLst>
            </a:prstGeom>
            <a:noFill/>
            <a:ln w="9360">
              <a:solidFill>
                <a:srgbClr val="e6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183"/>
            <p:cNvSpPr/>
            <p:nvPr/>
          </p:nvSpPr>
          <p:spPr>
            <a:xfrm flipH="1">
              <a:off x="5544720" y="1271520"/>
              <a:ext cx="792360" cy="685440"/>
            </a:xfrm>
            <a:prstGeom prst="hexagon">
              <a:avLst>
                <a:gd name="adj" fmla="val 28900"/>
                <a:gd name="vf" fmla="val 115470"/>
              </a:avLst>
            </a:prstGeom>
            <a:noFill/>
            <a:ln w="9360">
              <a:solidFill>
                <a:srgbClr val="e6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184"/>
            <p:cNvGrpSpPr/>
            <p:nvPr/>
          </p:nvGrpSpPr>
          <p:grpSpPr>
            <a:xfrm>
              <a:off x="7542360" y="81000"/>
              <a:ext cx="792000" cy="1441080"/>
              <a:chOff x="7542360" y="81000"/>
              <a:chExt cx="792000" cy="1441080"/>
            </a:xfrm>
          </p:grpSpPr>
          <p:sp>
            <p:nvSpPr>
              <p:cNvPr id="75" name="AutoShape 185"/>
              <p:cNvSpPr/>
              <p:nvPr/>
            </p:nvSpPr>
            <p:spPr>
              <a:xfrm flipH="1">
                <a:off x="7542360" y="83664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AutoShape 186"/>
              <p:cNvSpPr/>
              <p:nvPr/>
            </p:nvSpPr>
            <p:spPr>
              <a:xfrm flipH="1">
                <a:off x="7542360" y="8100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187"/>
            <p:cNvGrpSpPr/>
            <p:nvPr/>
          </p:nvGrpSpPr>
          <p:grpSpPr>
            <a:xfrm>
              <a:off x="8209080" y="441000"/>
              <a:ext cx="792000" cy="1442520"/>
              <a:chOff x="8209080" y="441000"/>
              <a:chExt cx="792000" cy="1442520"/>
            </a:xfrm>
          </p:grpSpPr>
          <p:sp>
            <p:nvSpPr>
              <p:cNvPr id="78" name="AutoShape 188"/>
              <p:cNvSpPr/>
              <p:nvPr/>
            </p:nvSpPr>
            <p:spPr>
              <a:xfrm flipH="1">
                <a:off x="8209080" y="44100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AutoShape 189"/>
              <p:cNvSpPr/>
              <p:nvPr/>
            </p:nvSpPr>
            <p:spPr>
              <a:xfrm flipH="1">
                <a:off x="8209080" y="119808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Group 166"/>
          <p:cNvGrpSpPr/>
          <p:nvPr/>
        </p:nvGrpSpPr>
        <p:grpSpPr>
          <a:xfrm>
            <a:off x="142920" y="4865760"/>
            <a:ext cx="3456000" cy="1875960"/>
            <a:chOff x="142920" y="4865760"/>
            <a:chExt cx="3456000" cy="1875960"/>
          </a:xfrm>
        </p:grpSpPr>
        <p:grpSp>
          <p:nvGrpSpPr>
            <p:cNvPr id="81" name="Group 167"/>
            <p:cNvGrpSpPr/>
            <p:nvPr/>
          </p:nvGrpSpPr>
          <p:grpSpPr>
            <a:xfrm>
              <a:off x="1474560" y="5260680"/>
              <a:ext cx="792000" cy="1442520"/>
              <a:chOff x="1474560" y="5260680"/>
              <a:chExt cx="792000" cy="1442520"/>
            </a:xfrm>
          </p:grpSpPr>
          <p:sp>
            <p:nvSpPr>
              <p:cNvPr id="82" name="AutoShape 168"/>
              <p:cNvSpPr/>
              <p:nvPr/>
            </p:nvSpPr>
            <p:spPr>
              <a:xfrm>
                <a:off x="1474560" y="601776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169"/>
              <p:cNvSpPr/>
              <p:nvPr/>
            </p:nvSpPr>
            <p:spPr>
              <a:xfrm>
                <a:off x="1474560" y="526068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AutoShape 170"/>
            <p:cNvSpPr/>
            <p:nvPr/>
          </p:nvSpPr>
          <p:spPr>
            <a:xfrm>
              <a:off x="2141640" y="5659200"/>
              <a:ext cx="792000" cy="685440"/>
            </a:xfrm>
            <a:prstGeom prst="hexagon">
              <a:avLst>
                <a:gd name="adj" fmla="val 28887"/>
                <a:gd name="vf" fmla="val 115470"/>
              </a:avLst>
            </a:prstGeom>
            <a:noFill/>
            <a:ln w="9360">
              <a:solidFill>
                <a:srgbClr val="e6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71"/>
            <p:cNvSpPr/>
            <p:nvPr/>
          </p:nvSpPr>
          <p:spPr>
            <a:xfrm>
              <a:off x="2806560" y="6056280"/>
              <a:ext cx="792360" cy="685440"/>
            </a:xfrm>
            <a:prstGeom prst="hexagon">
              <a:avLst>
                <a:gd name="adj" fmla="val 28900"/>
                <a:gd name="vf" fmla="val 115470"/>
              </a:avLst>
            </a:prstGeom>
            <a:noFill/>
            <a:ln w="9360">
              <a:solidFill>
                <a:srgbClr val="e68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172"/>
            <p:cNvGrpSpPr/>
            <p:nvPr/>
          </p:nvGrpSpPr>
          <p:grpSpPr>
            <a:xfrm>
              <a:off x="809640" y="4865760"/>
              <a:ext cx="792000" cy="1441080"/>
              <a:chOff x="809640" y="4865760"/>
              <a:chExt cx="792000" cy="1441080"/>
            </a:xfrm>
          </p:grpSpPr>
          <p:sp>
            <p:nvSpPr>
              <p:cNvPr id="87" name="AutoShape 173"/>
              <p:cNvSpPr/>
              <p:nvPr/>
            </p:nvSpPr>
            <p:spPr>
              <a:xfrm>
                <a:off x="809640" y="562140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AutoShape 174"/>
              <p:cNvSpPr/>
              <p:nvPr/>
            </p:nvSpPr>
            <p:spPr>
              <a:xfrm>
                <a:off x="809640" y="486576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175"/>
            <p:cNvGrpSpPr/>
            <p:nvPr/>
          </p:nvGrpSpPr>
          <p:grpSpPr>
            <a:xfrm>
              <a:off x="142920" y="5225760"/>
              <a:ext cx="792000" cy="1442520"/>
              <a:chOff x="142920" y="5225760"/>
              <a:chExt cx="792000" cy="1442520"/>
            </a:xfrm>
          </p:grpSpPr>
          <p:sp>
            <p:nvSpPr>
              <p:cNvPr id="90" name="AutoShape 176"/>
              <p:cNvSpPr/>
              <p:nvPr/>
            </p:nvSpPr>
            <p:spPr>
              <a:xfrm>
                <a:off x="142920" y="522576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177"/>
              <p:cNvSpPr/>
              <p:nvPr/>
            </p:nvSpPr>
            <p:spPr>
              <a:xfrm>
                <a:off x="142920" y="598284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noFill/>
              <a:ln w="9360">
                <a:solidFill>
                  <a:srgbClr val="e6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190"/>
          <p:cNvGrpSpPr/>
          <p:nvPr/>
        </p:nvGrpSpPr>
        <p:grpSpPr>
          <a:xfrm>
            <a:off x="142920" y="112680"/>
            <a:ext cx="3456000" cy="1875960"/>
            <a:chOff x="142920" y="112680"/>
            <a:chExt cx="3456000" cy="1875960"/>
          </a:xfrm>
        </p:grpSpPr>
        <p:grpSp>
          <p:nvGrpSpPr>
            <p:cNvPr id="93" name="Group 191"/>
            <p:cNvGrpSpPr/>
            <p:nvPr/>
          </p:nvGrpSpPr>
          <p:grpSpPr>
            <a:xfrm>
              <a:off x="1474560" y="507600"/>
              <a:ext cx="792000" cy="1442520"/>
              <a:chOff x="1474560" y="507600"/>
              <a:chExt cx="792000" cy="1442520"/>
            </a:xfrm>
          </p:grpSpPr>
          <p:sp>
            <p:nvSpPr>
              <p:cNvPr id="94" name="AutoShape 192"/>
              <p:cNvSpPr/>
              <p:nvPr/>
            </p:nvSpPr>
            <p:spPr>
              <a:xfrm>
                <a:off x="1474560" y="126468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193"/>
              <p:cNvSpPr/>
              <p:nvPr/>
            </p:nvSpPr>
            <p:spPr>
              <a:xfrm>
                <a:off x="1474560" y="50760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AutoShape 194"/>
            <p:cNvSpPr/>
            <p:nvPr/>
          </p:nvSpPr>
          <p:spPr>
            <a:xfrm>
              <a:off x="2141640" y="906120"/>
              <a:ext cx="792000" cy="685440"/>
            </a:xfrm>
            <a:prstGeom prst="hexagon">
              <a:avLst>
                <a:gd name="adj" fmla="val 28887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95"/>
            <p:cNvSpPr/>
            <p:nvPr/>
          </p:nvSpPr>
          <p:spPr>
            <a:xfrm>
              <a:off x="2806560" y="1303200"/>
              <a:ext cx="792360" cy="685440"/>
            </a:xfrm>
            <a:prstGeom prst="hexagon">
              <a:avLst>
                <a:gd name="adj" fmla="val 28900"/>
                <a:gd name="vf" fmla="val 11547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ff99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196"/>
            <p:cNvGrpSpPr/>
            <p:nvPr/>
          </p:nvGrpSpPr>
          <p:grpSpPr>
            <a:xfrm>
              <a:off x="809640" y="112680"/>
              <a:ext cx="792000" cy="1441080"/>
              <a:chOff x="809640" y="112680"/>
              <a:chExt cx="792000" cy="1441080"/>
            </a:xfrm>
          </p:grpSpPr>
          <p:sp>
            <p:nvSpPr>
              <p:cNvPr id="99" name="AutoShape 197"/>
              <p:cNvSpPr/>
              <p:nvPr/>
            </p:nvSpPr>
            <p:spPr>
              <a:xfrm>
                <a:off x="809640" y="86832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198"/>
              <p:cNvSpPr/>
              <p:nvPr/>
            </p:nvSpPr>
            <p:spPr>
              <a:xfrm>
                <a:off x="809640" y="11268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99"/>
            <p:cNvGrpSpPr/>
            <p:nvPr/>
          </p:nvGrpSpPr>
          <p:grpSpPr>
            <a:xfrm>
              <a:off x="142920" y="472680"/>
              <a:ext cx="792000" cy="1442520"/>
              <a:chOff x="142920" y="472680"/>
              <a:chExt cx="792000" cy="1442520"/>
            </a:xfrm>
          </p:grpSpPr>
          <p:sp>
            <p:nvSpPr>
              <p:cNvPr id="102" name="AutoShape 200"/>
              <p:cNvSpPr/>
              <p:nvPr/>
            </p:nvSpPr>
            <p:spPr>
              <a:xfrm>
                <a:off x="142920" y="47268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201"/>
              <p:cNvSpPr/>
              <p:nvPr/>
            </p:nvSpPr>
            <p:spPr>
              <a:xfrm>
                <a:off x="142920" y="1229760"/>
                <a:ext cx="792000" cy="685440"/>
              </a:xfrm>
              <a:prstGeom prst="hexagon">
                <a:avLst>
                  <a:gd name="adj" fmla="val 28887"/>
                  <a:gd name="vf" fmla="val 11547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ff99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9152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247680" y="1712520"/>
            <a:ext cx="8477280" cy="16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lar Power Plant :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V Cell Se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72600" y="3026880"/>
            <a:ext cx="4498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epthi Gadhir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neet Kar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esh Lal Shresh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jarshi Chatterj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For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483920"/>
            <a:ext cx="86868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Required Solar Electric (PV) System Size to Replace a Specified Amount of Utility (grid) electr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nsidered 5 types of  photovoltaic (PV) sola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 Electric (PV) System output for each type of cell used, i.e. we need to convert Power(kW) to Energy (kWh), One kilowatt-hour (1 kWh) means an energy source supplies 1,000 watts (1 kW) of energy for one h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V panels are shaded for part of the day, the output would be reduced in accordance to the shading percent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1" descr=""/>
          <p:cNvPicPr/>
          <p:nvPr/>
        </p:nvPicPr>
        <p:blipFill>
          <a:blip r:embed="rId1"/>
          <a:stretch/>
        </p:blipFill>
        <p:spPr>
          <a:xfrm>
            <a:off x="0" y="1566720"/>
            <a:ext cx="9144000" cy="419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able Placeholder 7" descr="Solver Options.jpg"/>
          <p:cNvPicPr/>
          <p:nvPr/>
        </p:nvPicPr>
        <p:blipFill>
          <a:blip r:embed="rId1"/>
          <a:stretch/>
        </p:blipFill>
        <p:spPr>
          <a:xfrm>
            <a:off x="4937040" y="1457280"/>
            <a:ext cx="4052880" cy="3395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Solver Params.jpg"/>
          <p:cNvPicPr/>
          <p:nvPr/>
        </p:nvPicPr>
        <p:blipFill>
          <a:blip r:embed="rId2"/>
          <a:stretch/>
        </p:blipFill>
        <p:spPr>
          <a:xfrm>
            <a:off x="227160" y="1968480"/>
            <a:ext cx="448596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483920"/>
            <a:ext cx="83869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 in sunlight incident on the solar panels changes the power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Averaged Insolation Incident On A Horizontal Surface (kWh/m2/da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Difference From Monthly Averaged Insolation(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Difference From Monthly Averaged Insolation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3574800" cy="198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Content Placeholder 4" descr="Triangle.jpg"/>
          <p:cNvPicPr/>
          <p:nvPr/>
        </p:nvPicPr>
        <p:blipFill>
          <a:blip r:embed="rId1"/>
          <a:stretch/>
        </p:blipFill>
        <p:spPr>
          <a:xfrm>
            <a:off x="372960" y="1566720"/>
            <a:ext cx="4419720" cy="3213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Run Preferences.jpg"/>
          <p:cNvPicPr/>
          <p:nvPr/>
        </p:nvPicPr>
        <p:blipFill>
          <a:blip r:embed="rId2"/>
          <a:stretch/>
        </p:blipFill>
        <p:spPr>
          <a:xfrm>
            <a:off x="5046840" y="1603440"/>
            <a:ext cx="3744720" cy="335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50600" y="0"/>
            <a:ext cx="687564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Amorphous Silicon.jpg"/>
          <p:cNvPicPr/>
          <p:nvPr/>
        </p:nvPicPr>
        <p:blipFill>
          <a:blip r:embed="rId1"/>
          <a:stretch/>
        </p:blipFill>
        <p:spPr>
          <a:xfrm>
            <a:off x="0" y="763560"/>
            <a:ext cx="4572000" cy="2044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Mono a-silicon.jpg"/>
          <p:cNvPicPr/>
          <p:nvPr/>
        </p:nvPicPr>
        <p:blipFill>
          <a:blip r:embed="rId2"/>
          <a:stretch/>
        </p:blipFill>
        <p:spPr>
          <a:xfrm>
            <a:off x="2600280" y="4889520"/>
            <a:ext cx="4608720" cy="1968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mono silicon.jpg"/>
          <p:cNvPicPr/>
          <p:nvPr/>
        </p:nvPicPr>
        <p:blipFill>
          <a:blip r:embed="rId3"/>
          <a:stretch/>
        </p:blipFill>
        <p:spPr>
          <a:xfrm>
            <a:off x="4572000" y="763560"/>
            <a:ext cx="4572000" cy="2044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Polycrystalline.jpg"/>
          <p:cNvPicPr/>
          <p:nvPr/>
        </p:nvPicPr>
        <p:blipFill>
          <a:blip r:embed="rId4"/>
          <a:stretch/>
        </p:blipFill>
        <p:spPr>
          <a:xfrm>
            <a:off x="4548240" y="2771640"/>
            <a:ext cx="4595760" cy="2117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String Ribbon.jpg"/>
          <p:cNvPicPr/>
          <p:nvPr/>
        </p:nvPicPr>
        <p:blipFill>
          <a:blip r:embed="rId5"/>
          <a:stretch/>
        </p:blipFill>
        <p:spPr>
          <a:xfrm>
            <a:off x="0" y="2808360"/>
            <a:ext cx="4572000" cy="2081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483920"/>
            <a:ext cx="83502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Ribbon gave the least implementation cost but its efficiency was affected by random weather conditions, and thus was effective only 58% of th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rphous Silicon Thin Film, Monocrystalline a-Silicon and Polycrystalline Silicon met the power requirements 100% of the time, of which using Polycrystalline Silicon was opt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498920" y="5400720"/>
            <a:ext cx="4068720" cy="12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ner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ycrystalline Sil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21920" y="289080"/>
            <a:ext cx="7464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tension of a previou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Put Solar Power?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Spring ‘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Jake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rnoud Bokste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ndrew Ward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d wi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59000" y="872640"/>
            <a:ext cx="74642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Data Inputs used in the previous projec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09680" y="1785600"/>
            <a:ext cx="82915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, lifetime, and efficiency of a typical solar power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iling market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estat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unt Rate: assumed to be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Site – New York_x0016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7543800" y="5389560"/>
            <a:ext cx="1600200" cy="1468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4516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lection of Photo-Voltaic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2960" y="1420920"/>
            <a:ext cx="55864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V cell is a device that converts the energy of sunlight directly into electricity by the photovoltaic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formance of a solar cell is measured in terms of its efficiency at turning sunlight into electric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5619600" y="2224080"/>
            <a:ext cx="3524040" cy="3903840"/>
            <a:chOff x="5619600" y="2224080"/>
            <a:chExt cx="3524040" cy="3903840"/>
          </a:xfrm>
        </p:grpSpPr>
        <p:sp>
          <p:nvSpPr>
            <p:cNvPr id="159" name="AutoShape 6"/>
            <p:cNvSpPr/>
            <p:nvPr/>
          </p:nvSpPr>
          <p:spPr>
            <a:xfrm>
              <a:off x="6422040" y="2368080"/>
              <a:ext cx="2721600" cy="37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7439400" y="5346000"/>
              <a:ext cx="1437480" cy="7815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7239240" y="4564440"/>
              <a:ext cx="1904400" cy="7815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7491600" y="3001320"/>
              <a:ext cx="1503720" cy="156312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8199720" y="6035040"/>
              <a:ext cx="197280" cy="71280"/>
            </a:xfrm>
            <a:prstGeom prst="pie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7938360" y="6007320"/>
              <a:ext cx="141480" cy="46800"/>
            </a:xfrm>
            <a:prstGeom prst="pie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7659000" y="5523480"/>
              <a:ext cx="954720" cy="503640"/>
            </a:xfrm>
            <a:prstGeom prst="pie">
              <a:avLst/>
            </a:pr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7470360" y="5019840"/>
              <a:ext cx="1198800" cy="503640"/>
            </a:xfrm>
            <a:prstGeom prst="pie">
              <a:avLst/>
            </a:pr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8020800" y="5903280"/>
              <a:ext cx="17640" cy="414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7643520" y="5116320"/>
              <a:ext cx="92520" cy="31140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8649360" y="4546800"/>
              <a:ext cx="475200" cy="86832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7781760" y="5290560"/>
              <a:ext cx="41400" cy="12024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7369920" y="5035680"/>
              <a:ext cx="144000" cy="34740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7675920" y="5320440"/>
              <a:ext cx="29880" cy="554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8746560" y="5298120"/>
              <a:ext cx="108360" cy="6912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7688160" y="5335920"/>
              <a:ext cx="6480" cy="2664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7662600" y="5059080"/>
              <a:ext cx="88920" cy="25416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4"/>
            <p:cNvSpPr/>
            <p:nvPr/>
          </p:nvSpPr>
          <p:spPr>
            <a:xfrm>
              <a:off x="8728560" y="5231160"/>
              <a:ext cx="121680" cy="6120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7695000" y="5034600"/>
              <a:ext cx="124560" cy="25200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6"/>
            <p:cNvSpPr/>
            <p:nvPr/>
          </p:nvSpPr>
          <p:spPr>
            <a:xfrm>
              <a:off x="7702560" y="4955400"/>
              <a:ext cx="122760" cy="24300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7"/>
            <p:cNvSpPr/>
            <p:nvPr/>
          </p:nvSpPr>
          <p:spPr>
            <a:xfrm>
              <a:off x="7751520" y="4916160"/>
              <a:ext cx="128520" cy="26784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8"/>
            <p:cNvSpPr/>
            <p:nvPr/>
          </p:nvSpPr>
          <p:spPr>
            <a:xfrm>
              <a:off x="7781760" y="5106240"/>
              <a:ext cx="33480" cy="5112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7895880" y="5113800"/>
              <a:ext cx="78120" cy="30960"/>
            </a:xfrm>
            <a:prstGeom prst="pie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"/>
            <p:cNvSpPr/>
            <p:nvPr/>
          </p:nvSpPr>
          <p:spPr>
            <a:xfrm>
              <a:off x="7794360" y="5121720"/>
              <a:ext cx="8640" cy="1980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7998480" y="5083920"/>
              <a:ext cx="204120" cy="50040"/>
            </a:xfrm>
            <a:prstGeom prst="pie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2"/>
            <p:cNvSpPr/>
            <p:nvPr/>
          </p:nvSpPr>
          <p:spPr>
            <a:xfrm>
              <a:off x="8256600" y="5065920"/>
              <a:ext cx="318960" cy="62280"/>
            </a:xfrm>
            <a:prstGeom prst="pie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3"/>
            <p:cNvSpPr/>
            <p:nvPr/>
          </p:nvSpPr>
          <p:spPr>
            <a:xfrm>
              <a:off x="7707240" y="5063400"/>
              <a:ext cx="36720" cy="590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7719480" y="5083920"/>
              <a:ext cx="14400" cy="2556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>
              <a:off x="7902720" y="4327560"/>
              <a:ext cx="1009080" cy="773640"/>
            </a:xfrm>
            <a:prstGeom prst="pie">
              <a:avLst/>
            </a:prstGeom>
            <a:solidFill>
              <a:srgbClr val="d5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6"/>
            <p:cNvSpPr/>
            <p:nvPr/>
          </p:nvSpPr>
          <p:spPr>
            <a:xfrm>
              <a:off x="7494840" y="5030280"/>
              <a:ext cx="158400" cy="61200"/>
            </a:xfrm>
            <a:prstGeom prst="pie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7"/>
            <p:cNvSpPr/>
            <p:nvPr/>
          </p:nvSpPr>
          <p:spPr>
            <a:xfrm>
              <a:off x="7442640" y="4429440"/>
              <a:ext cx="406080" cy="620640"/>
            </a:xfrm>
            <a:prstGeom prst="pie">
              <a:avLst/>
            </a:prstGeom>
            <a:solidFill>
              <a:srgbClr val="d5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7768800" y="4861440"/>
              <a:ext cx="103680" cy="16848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>
              <a:off x="8096760" y="4871520"/>
              <a:ext cx="121680" cy="1281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>
              <a:off x="7806240" y="4831200"/>
              <a:ext cx="86040" cy="15624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>
              <a:off x="7765200" y="4934160"/>
              <a:ext cx="32400" cy="500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>
              <a:off x="7776360" y="4948560"/>
              <a:ext cx="11160" cy="2124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3"/>
            <p:cNvSpPr/>
            <p:nvPr/>
          </p:nvSpPr>
          <p:spPr>
            <a:xfrm>
              <a:off x="7258320" y="4593600"/>
              <a:ext cx="272160" cy="35388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4"/>
            <p:cNvSpPr/>
            <p:nvPr/>
          </p:nvSpPr>
          <p:spPr>
            <a:xfrm>
              <a:off x="8091360" y="4718520"/>
              <a:ext cx="240840" cy="18288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5"/>
            <p:cNvSpPr/>
            <p:nvPr/>
          </p:nvSpPr>
          <p:spPr>
            <a:xfrm>
              <a:off x="7830000" y="4847040"/>
              <a:ext cx="29880" cy="399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6"/>
            <p:cNvSpPr/>
            <p:nvPr/>
          </p:nvSpPr>
          <p:spPr>
            <a:xfrm>
              <a:off x="7842240" y="4861440"/>
              <a:ext cx="5400" cy="1080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7"/>
            <p:cNvSpPr/>
            <p:nvPr/>
          </p:nvSpPr>
          <p:spPr>
            <a:xfrm>
              <a:off x="7822080" y="4743360"/>
              <a:ext cx="79200" cy="9360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8"/>
            <p:cNvSpPr/>
            <p:nvPr/>
          </p:nvSpPr>
          <p:spPr>
            <a:xfrm>
              <a:off x="8186040" y="4796640"/>
              <a:ext cx="17640" cy="23400"/>
            </a:xfrm>
            <a:prstGeom prst="pie">
              <a:avLst/>
            </a:prstGeom>
            <a:solidFill>
              <a:srgbClr val="f8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9"/>
            <p:cNvSpPr/>
            <p:nvPr/>
          </p:nvSpPr>
          <p:spPr>
            <a:xfrm>
              <a:off x="8260920" y="4759920"/>
              <a:ext cx="13320" cy="6012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0"/>
            <p:cNvSpPr/>
            <p:nvPr/>
          </p:nvSpPr>
          <p:spPr>
            <a:xfrm>
              <a:off x="8184960" y="4753080"/>
              <a:ext cx="25560" cy="30240"/>
            </a:xfrm>
            <a:prstGeom prst="pie">
              <a:avLst/>
            </a:prstGeom>
            <a:solidFill>
              <a:srgbClr val="ee9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1"/>
            <p:cNvSpPr/>
            <p:nvPr/>
          </p:nvSpPr>
          <p:spPr>
            <a:xfrm>
              <a:off x="7881480" y="4647240"/>
              <a:ext cx="104760" cy="9036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7967160" y="4245120"/>
              <a:ext cx="484560" cy="471960"/>
            </a:xfrm>
            <a:prstGeom prst="pie">
              <a:avLst/>
            </a:prstGeom>
            <a:solidFill>
              <a:srgbClr val="d5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7866720" y="4626000"/>
              <a:ext cx="92520" cy="83520"/>
            </a:xfrm>
            <a:prstGeom prst="pie">
              <a:avLst/>
            </a:prstGeom>
            <a:solidFill>
              <a:srgbClr val="75c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4"/>
            <p:cNvSpPr/>
            <p:nvPr/>
          </p:nvSpPr>
          <p:spPr>
            <a:xfrm>
              <a:off x="7896960" y="4647240"/>
              <a:ext cx="28800" cy="410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5"/>
            <p:cNvSpPr/>
            <p:nvPr/>
          </p:nvSpPr>
          <p:spPr>
            <a:xfrm>
              <a:off x="7908120" y="4664880"/>
              <a:ext cx="5400" cy="1008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7812360" y="4533120"/>
              <a:ext cx="99000" cy="100440"/>
            </a:xfrm>
            <a:prstGeom prst="pie">
              <a:avLst/>
            </a:prstGeom>
            <a:solidFill>
              <a:srgbClr val="d5ec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7891560" y="4602600"/>
              <a:ext cx="65520" cy="20160"/>
            </a:xfrm>
            <a:prstGeom prst="pie">
              <a:avLst/>
            </a:pr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8"/>
            <p:cNvSpPr/>
            <p:nvPr/>
          </p:nvSpPr>
          <p:spPr>
            <a:xfrm>
              <a:off x="7763040" y="4020840"/>
              <a:ext cx="646200" cy="55692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9"/>
            <p:cNvSpPr/>
            <p:nvPr/>
          </p:nvSpPr>
          <p:spPr>
            <a:xfrm>
              <a:off x="7646760" y="3741480"/>
              <a:ext cx="791280" cy="27900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7652520" y="3463560"/>
              <a:ext cx="821520" cy="27792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>
              <a:off x="8448480" y="4432680"/>
              <a:ext cx="21240" cy="255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2"/>
            <p:cNvSpPr/>
            <p:nvPr/>
          </p:nvSpPr>
          <p:spPr>
            <a:xfrm>
              <a:off x="8470800" y="4372560"/>
              <a:ext cx="21240" cy="255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3"/>
            <p:cNvSpPr/>
            <p:nvPr/>
          </p:nvSpPr>
          <p:spPr>
            <a:xfrm>
              <a:off x="8054280" y="4249800"/>
              <a:ext cx="17640" cy="342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4"/>
            <p:cNvSpPr/>
            <p:nvPr/>
          </p:nvSpPr>
          <p:spPr>
            <a:xfrm>
              <a:off x="8072280" y="4241880"/>
              <a:ext cx="18720" cy="4212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5"/>
            <p:cNvSpPr/>
            <p:nvPr/>
          </p:nvSpPr>
          <p:spPr>
            <a:xfrm>
              <a:off x="8090280" y="4236120"/>
              <a:ext cx="17640" cy="266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6"/>
            <p:cNvSpPr/>
            <p:nvPr/>
          </p:nvSpPr>
          <p:spPr>
            <a:xfrm>
              <a:off x="8115840" y="4230720"/>
              <a:ext cx="13320" cy="176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7"/>
            <p:cNvSpPr/>
            <p:nvPr/>
          </p:nvSpPr>
          <p:spPr>
            <a:xfrm>
              <a:off x="8352360" y="4131000"/>
              <a:ext cx="39960" cy="648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8"/>
            <p:cNvSpPr/>
            <p:nvPr/>
          </p:nvSpPr>
          <p:spPr>
            <a:xfrm>
              <a:off x="8277480" y="4076640"/>
              <a:ext cx="12240" cy="165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9"/>
            <p:cNvSpPr/>
            <p:nvPr/>
          </p:nvSpPr>
          <p:spPr>
            <a:xfrm>
              <a:off x="8328960" y="4046400"/>
              <a:ext cx="35640" cy="399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0"/>
            <p:cNvSpPr/>
            <p:nvPr/>
          </p:nvSpPr>
          <p:spPr>
            <a:xfrm>
              <a:off x="8342280" y="4065480"/>
              <a:ext cx="5400" cy="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1"/>
            <p:cNvSpPr/>
            <p:nvPr/>
          </p:nvSpPr>
          <p:spPr>
            <a:xfrm>
              <a:off x="8304480" y="4044240"/>
              <a:ext cx="12240" cy="108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2"/>
            <p:cNvSpPr/>
            <p:nvPr/>
          </p:nvSpPr>
          <p:spPr>
            <a:xfrm>
              <a:off x="8290080" y="4014000"/>
              <a:ext cx="11880" cy="1548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3"/>
            <p:cNvSpPr/>
            <p:nvPr/>
          </p:nvSpPr>
          <p:spPr>
            <a:xfrm>
              <a:off x="7748280" y="3773880"/>
              <a:ext cx="14400" cy="446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4"/>
            <p:cNvSpPr/>
            <p:nvPr/>
          </p:nvSpPr>
          <p:spPr>
            <a:xfrm>
              <a:off x="8257680" y="3512520"/>
              <a:ext cx="198720" cy="3024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5"/>
            <p:cNvSpPr/>
            <p:nvPr/>
          </p:nvSpPr>
          <p:spPr>
            <a:xfrm>
              <a:off x="7711560" y="3763800"/>
              <a:ext cx="14400" cy="500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6"/>
            <p:cNvSpPr/>
            <p:nvPr/>
          </p:nvSpPr>
          <p:spPr>
            <a:xfrm>
              <a:off x="7732800" y="3771720"/>
              <a:ext cx="14400" cy="4248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7"/>
            <p:cNvSpPr/>
            <p:nvPr/>
          </p:nvSpPr>
          <p:spPr>
            <a:xfrm>
              <a:off x="7774200" y="3779280"/>
              <a:ext cx="13320" cy="2988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8"/>
            <p:cNvSpPr/>
            <p:nvPr/>
          </p:nvSpPr>
          <p:spPr>
            <a:xfrm>
              <a:off x="7692840" y="3756240"/>
              <a:ext cx="17640" cy="4536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9"/>
            <p:cNvSpPr/>
            <p:nvPr/>
          </p:nvSpPr>
          <p:spPr>
            <a:xfrm>
              <a:off x="7793280" y="3782880"/>
              <a:ext cx="12960" cy="176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>
              <a:off x="7678080" y="3742560"/>
              <a:ext cx="20160" cy="522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1"/>
            <p:cNvSpPr/>
            <p:nvPr/>
          </p:nvSpPr>
          <p:spPr>
            <a:xfrm>
              <a:off x="7659000" y="3731760"/>
              <a:ext cx="24480" cy="432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2"/>
            <p:cNvSpPr/>
            <p:nvPr/>
          </p:nvSpPr>
          <p:spPr>
            <a:xfrm>
              <a:off x="8335800" y="3534840"/>
              <a:ext cx="97920" cy="20088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3"/>
            <p:cNvSpPr/>
            <p:nvPr/>
          </p:nvSpPr>
          <p:spPr>
            <a:xfrm>
              <a:off x="7928280" y="3420000"/>
              <a:ext cx="36720" cy="204120"/>
            </a:xfrm>
            <a:prstGeom prst="pie">
              <a:avLst/>
            </a:prstGeom>
            <a:solidFill>
              <a:srgbClr val="eaf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4"/>
            <p:cNvSpPr/>
            <p:nvPr/>
          </p:nvSpPr>
          <p:spPr>
            <a:xfrm>
              <a:off x="7834320" y="3462480"/>
              <a:ext cx="33120" cy="111600"/>
            </a:xfrm>
            <a:prstGeom prst="pie">
              <a:avLst/>
            </a:prstGeom>
            <a:solidFill>
              <a:srgbClr val="eaf5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5"/>
            <p:cNvSpPr/>
            <p:nvPr/>
          </p:nvSpPr>
          <p:spPr>
            <a:xfrm>
              <a:off x="7870320" y="3185280"/>
              <a:ext cx="406080" cy="336240"/>
            </a:xfrm>
            <a:prstGeom prst="pie">
              <a:avLst/>
            </a:prstGeom>
            <a:solidFill>
              <a:srgbClr val="f5c5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6"/>
            <p:cNvSpPr/>
            <p:nvPr/>
          </p:nvSpPr>
          <p:spPr>
            <a:xfrm>
              <a:off x="6422040" y="2368080"/>
              <a:ext cx="1411200" cy="121032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>
              <a:off x="5619600" y="2224080"/>
              <a:ext cx="2217240" cy="1309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Efficiency ?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 Costs ?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8"/>
            <p:cNvSpPr/>
            <p:nvPr/>
          </p:nvSpPr>
          <p:spPr>
            <a:xfrm>
              <a:off x="7581960" y="3431160"/>
              <a:ext cx="78120" cy="8028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"/>
            <p:cNvSpPr/>
            <p:nvPr/>
          </p:nvSpPr>
          <p:spPr>
            <a:xfrm>
              <a:off x="7394400" y="3355200"/>
              <a:ext cx="151560" cy="14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0"/>
            <p:cNvSpPr/>
            <p:nvPr/>
          </p:nvSpPr>
          <p:spPr>
            <a:xfrm>
              <a:off x="7604280" y="3448080"/>
              <a:ext cx="37800" cy="4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1"/>
            <p:cNvSpPr/>
            <p:nvPr/>
          </p:nvSpPr>
          <p:spPr>
            <a:xfrm>
              <a:off x="7936920" y="3020400"/>
              <a:ext cx="548280" cy="484200"/>
            </a:xfrm>
            <a:prstGeom prst="pie">
              <a:avLst/>
            </a:pr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2"/>
            <p:cNvSpPr/>
            <p:nvPr/>
          </p:nvSpPr>
          <p:spPr>
            <a:xfrm>
              <a:off x="8268840" y="3421080"/>
              <a:ext cx="45720" cy="51120"/>
            </a:xfrm>
            <a:prstGeom prst="pie">
              <a:avLst/>
            </a:prstGeom>
            <a:solidFill>
              <a:srgbClr val="9581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3"/>
            <p:cNvSpPr/>
            <p:nvPr/>
          </p:nvSpPr>
          <p:spPr>
            <a:xfrm>
              <a:off x="7925760" y="3281400"/>
              <a:ext cx="118440" cy="9828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4"/>
            <p:cNvSpPr/>
            <p:nvPr/>
          </p:nvSpPr>
          <p:spPr>
            <a:xfrm>
              <a:off x="8282160" y="3220920"/>
              <a:ext cx="36720" cy="8604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5"/>
            <p:cNvSpPr/>
            <p:nvPr/>
          </p:nvSpPr>
          <p:spPr>
            <a:xfrm>
              <a:off x="8301960" y="3222360"/>
              <a:ext cx="28800" cy="7020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6"/>
            <p:cNvSpPr/>
            <p:nvPr/>
          </p:nvSpPr>
          <p:spPr>
            <a:xfrm>
              <a:off x="8328960" y="3228840"/>
              <a:ext cx="18720" cy="51120"/>
            </a:xfrm>
            <a:prstGeom prst="pie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ricity from PV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483920"/>
            <a:ext cx="83502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ical commercial solar cell has an efficiency of 15%-about one-sixth of the sunlight striking the cell generates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efficiencies mean that larger arrays are needed, and that means higher co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ing solar cell efficiencies while holding down the cost per cell is an important goal of the PV indu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7086600" y="5240160"/>
            <a:ext cx="2057400" cy="161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agerial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238400"/>
            <a:ext cx="8532720" cy="46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cells required from each module type, for 30MW plant in selected location (here, New Yor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cost of implementing the PV module plant that generates at least the expected power 100% of the time within a budget of $30 Mill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type of cell, plant capacity should be equal to or greater than the power the plant is claiming to produ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umber of modules should be integ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st of building each plant should be less than $30 Mill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6858000" y="5051520"/>
            <a:ext cx="2286000" cy="1806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71240" y="-360"/>
            <a:ext cx="44910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son of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V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3"/>
          <p:cNvGraphicFramePr/>
          <p:nvPr/>
        </p:nvGraphicFramePr>
        <p:xfrm>
          <a:off x="-250920" y="515880"/>
          <a:ext cx="9620280" cy="614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0920" y="515880"/>
                    <a:ext cx="9620280" cy="614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2"/>
          <p:cNvSpPr/>
          <p:nvPr/>
        </p:nvSpPr>
        <p:spPr>
          <a:xfrm>
            <a:off x="0" y="2370240"/>
            <a:ext cx="313992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nocrystalline Silic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nocrystalline a-Silic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ycrystalline Silic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ing Ribbon Po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morphous Thin Fil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451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ffecting PV Effici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483920"/>
            <a:ext cx="84232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Averaged Insolation Incident On A Horizontal Surface (kWh/m2/da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Averaged Daylight Hours (hou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hly Averaged Daylight Cloud Amount (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sun shine hours received per 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Difference From Monthly Averaged Insolation(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Difference From Monthly Averaged Insolation(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Number Of NO-SUN Or BLACK Days (days) in a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92360" y="259920"/>
            <a:ext cx="6875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s Affecting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371600"/>
            <a:ext cx="849636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f pa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from 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x0016__x0016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5334120" y="1219320"/>
            <a:ext cx="3222360" cy="2286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0" y="4191120"/>
            <a:ext cx="190512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"/>
          <p:cNvGraphicFramePr/>
          <p:nvPr/>
        </p:nvGraphicFramePr>
        <p:xfrm>
          <a:off x="2362320" y="3962520"/>
          <a:ext cx="6781680" cy="2590560"/>
        </p:xfrm>
        <a:graphic>
          <a:graphicData uri="http://schemas.openxmlformats.org/drawingml/2006/table">
            <a:tbl>
              <a:tblPr/>
              <a:tblGrid>
                <a:gridCol w="1820880"/>
                <a:gridCol w="879480"/>
                <a:gridCol w="1199880"/>
                <a:gridCol w="406440"/>
                <a:gridCol w="320760"/>
                <a:gridCol w="685800"/>
                <a:gridCol w="504720"/>
                <a:gridCol w="557280"/>
                <a:gridCol w="406440"/>
              </a:tblGrid>
              <a:tr h="487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at STC(W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efficiency(%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 (Inches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dth(Inches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(inches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Locati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from NY(Miles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crystalline silicon(SolarWorld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40%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4.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745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egon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crystalline a-silicon(Sanyo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0%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3.0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25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kans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crystalline silicon(Sharp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70%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5.8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20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ess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 Ribbon polycrystalline(EverGreen Solar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0%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7.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71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achesute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phous silicon thin film panel(Kaneka Soalr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0%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97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2.676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7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 conditions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adianc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t per Sq.meter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Temperature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at STC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.775904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with Freight per mile per lb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01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8:30:35Z</dcterms:created>
  <dc:creator>Presentation Magazine</dc:creator>
  <dc:description/>
  <dc:language>en-US</dc:language>
  <cp:lastModifiedBy>Deepthi Raju</cp:lastModifiedBy>
  <dcterms:modified xsi:type="dcterms:W3CDTF">2009-12-15T18:45:14Z</dcterms:modified>
  <cp:revision>89</cp:revision>
  <dc:subject/>
  <dc:title>Hex Orange Template</dc:title>
</cp:coreProperties>
</file>